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0BE6-F5B5-4EFF-983F-816781F13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8050-A0D6-415A-9129-B45A1905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6E4B-05E5-482A-A5ED-C8E680972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CF94-EC75-47F3-8840-804A687AB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CDEA-A133-4F5E-88A4-EFFAA8C7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3164-17D2-4941-AF45-2156D86D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7812-8660-4830-AE8F-7843CA5D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CE5C-8612-4B58-B5DF-6BBC733B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385E-E269-44C7-A150-33073CA2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1447-2773-473F-9ED7-A8940E72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947E-62EF-432A-9562-405AF208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6FDB-F2D7-43E1-883B-8BCD5A45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BD22-A5D3-48DE-A1DE-E8C877225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mile/Metaph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son of two unlike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e: “like” or “a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phor: without “like” or “a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 is to deepen understanding or mystery of the thing itsel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3598920"/>
            <a:ext cx="914400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57200"/>
            <a:ext cx="914400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 Nouns: things that cannot be seen, smelled, tasted, or tou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rete Nouns: things that can be seen, smelled, tasted, or touch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3733920"/>
            <a:ext cx="4876920" cy="3124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495680" y="3733920"/>
            <a:ext cx="46483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the lists together and exp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stract no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is / is like / is ___ as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crete no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pa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. Dreams are like orange popsicles: they melt away and their sweetness is lost forev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95280" y="2895480"/>
            <a:ext cx="3100680" cy="3962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9588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3:57:56Z</dcterms:created>
  <dc:creator>Administrator</dc:creator>
  <dc:description/>
  <dc:language>en-US</dc:language>
  <cp:lastModifiedBy>Administrator</cp:lastModifiedBy>
  <dcterms:modified xsi:type="dcterms:W3CDTF">2010-09-29T16:49:50Z</dcterms:modified>
  <cp:revision>3</cp:revision>
  <dc:subject/>
  <dc:title>Slide 1</dc:title>
</cp:coreProperties>
</file>